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12695"/>
        <c:axId val="86471618"/>
      </c:barChart>
      <c:catAx>
        <c:axId val="37812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71618"/>
        <c:crosses val="autoZero"/>
        <c:auto val="1"/>
        <c:lblAlgn val="ctr"/>
        <c:lblOffset val="100"/>
        <c:noMultiLvlLbl val="0"/>
      </c:catAx>
      <c:valAx>
        <c:axId val="86471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12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E59-E8B1-4BF6-8FE4-AEC85C17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9A1-7275-478C-BBA5-D26B242E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8C8-2D70-48B8-B8CC-8C62244F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990-6CA8-4CE5-ABA7-A684A342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AB1-148A-44B3-953A-C9F877E5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65C0-778A-4356-8BA5-497DF9FC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CF0-8AD8-420C-92B8-A1D6BA75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E23-1736-448D-A945-AE3844DE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DAB6-65A0-46B2-8110-58384567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812-A75D-4113-8F46-A1A77CCD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BAC-EC81-41A2-B338-F0BBBA2B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DB8-4EAA-4770-9459-0E4E62C6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46D3D-9F2B-428B-9DE5-619BC30672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