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33077"/>
        <c:axId val="68151325"/>
      </c:barChart>
      <c:catAx>
        <c:axId val="835330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51325"/>
        <c:crosses val="autoZero"/>
        <c:auto val="1"/>
        <c:lblAlgn val="ctr"/>
        <c:lblOffset val="100"/>
        <c:noMultiLvlLbl val="0"/>
      </c:catAx>
      <c:valAx>
        <c:axId val="68151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330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9C4B-622E-4F4C-94AF-B6215F2F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630-FD02-45D8-B61D-80B8CF69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7C8-E4C4-4B55-8468-9EE946F3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6A90-8687-4444-8E31-9FF391A5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D8F7-539E-4F4A-ACAF-627346CD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10FA-4448-4020-9CBE-83C28BEB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1B39-5C85-47B0-B4DB-EB20B2C9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EE68-D2DE-4A62-ABD2-BBB28B9F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DC62-C4D6-4EF2-9EDD-F413CA1F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D10C-956F-4AFD-9590-2060B2FF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A6D-2CFA-449B-A448-817A86E5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9A12-8513-4773-AF04-0F628945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9C92B-D65D-46F1-B30E-4F0A029AC5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