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20905"/>
        <c:axId val="24790677"/>
      </c:barChart>
      <c:catAx>
        <c:axId val="8512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90677"/>
        <c:crosses val="autoZero"/>
        <c:auto val="1"/>
        <c:lblAlgn val="ctr"/>
        <c:lblOffset val="100"/>
        <c:noMultiLvlLbl val="0"/>
      </c:catAx>
      <c:valAx>
        <c:axId val="24790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A92-D5DB-4ED2-A58F-A1ED26B1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6A7-6672-46F6-8FCD-E70CEAD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48D-0BB4-4495-93D4-275DD088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05F-48EC-4316-A687-8CCED2D9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670-14A8-4814-B456-E4D7A8A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D38-A837-4015-9C44-9207D49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E85-76F1-4FB5-9EE8-66475D43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827-7FE7-4D23-9D2D-9F307A24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D10-4481-42D5-8807-B6458C16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BFC-260F-4226-9031-58632DD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EF2-DBCE-4442-A6D2-9088DCA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D44-C296-441F-AD6C-09C5CAC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736F6-0FFD-40AA-A067-6BB14256A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