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44130"/>
        <c:axId val="6186051"/>
      </c:barChart>
      <c:catAx>
        <c:axId val="83844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051"/>
        <c:crosses val="autoZero"/>
        <c:auto val="1"/>
        <c:lblAlgn val="ctr"/>
        <c:lblOffset val="100"/>
        <c:noMultiLvlLbl val="0"/>
      </c:catAx>
      <c:valAx>
        <c:axId val="618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4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099-0625-4D7B-A93E-0ECBA853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90D-13F5-430D-9F2C-4DCC5D6C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27B-A2F5-49C2-88DB-2732EE47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65D-FE3C-4316-938E-221F1A46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96D-AD3E-4C69-ABD6-66AF1B2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9D0-F6EF-4EF6-9833-C8AA37A5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93B-3602-4134-B7EC-8A5FCDF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9F3-4B63-4D3F-B745-DBD9C9A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837-62FE-424C-8929-08E1CEC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788-391C-404F-93A8-B4053F8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F9B-CE0C-4923-8CB2-E73081B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A6F-9CE5-490E-A2E9-B80E1815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EA739-CCE5-4D71-81DD-7BAAE1F845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