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99034"/>
        <c:axId val="58905299"/>
      </c:barChart>
      <c:catAx>
        <c:axId val="49099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05299"/>
        <c:crosses val="autoZero"/>
        <c:auto val="1"/>
        <c:lblAlgn val="ctr"/>
        <c:lblOffset val="100"/>
        <c:noMultiLvlLbl val="0"/>
      </c:catAx>
      <c:valAx>
        <c:axId val="58905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99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D27-B5DE-4EDB-BA54-86126B80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DBC-ACD7-4257-8497-65839A04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7F5-452D-44E3-9F64-4BFE8341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6B4-493C-4F57-B6E0-0C73B556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63E-E8AA-4592-9A0F-3287E5EA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A0E-AD41-4BAD-953C-8D5CE289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680-983F-414D-ABF7-AFC1B740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736-C239-4D27-8748-C1D42730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02D-D2BF-4992-98A0-5FF85AD6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7B9-D818-4130-BD2A-6C3C0EE5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AA3-9A4E-4BB2-AB8E-EB5674AA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813-97CF-4BDB-B43D-90ABDE55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012E1-09D1-429E-82C3-25AA8379EC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