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24647"/>
        <c:axId val="86545843"/>
      </c:barChart>
      <c:catAx>
        <c:axId val="65724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45843"/>
        <c:crosses val="autoZero"/>
        <c:auto val="1"/>
        <c:lblAlgn val="ctr"/>
        <c:lblOffset val="100"/>
        <c:noMultiLvlLbl val="0"/>
      </c:catAx>
      <c:valAx>
        <c:axId val="86545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24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206-0F07-4721-8A23-26FA3219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729-A02D-4015-9588-5187E0E7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F46-6054-4E48-8B5E-A2B40778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BD5-6BF0-4BE3-B802-EBFCE1AB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3CF-2692-4344-9D33-B5C9703C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261-B589-4DA7-8C9E-26402007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4C1-CABA-4C39-8252-B06AEB82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F60-544E-498D-AB3E-29FD1BC6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940-E4B7-4EF8-BF10-8AD8BB39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286-CC10-41CA-8025-9A2D0D37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457-6ECB-4033-9B9D-A100ADF5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DEE-1400-460B-9873-8C8607B4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4E32F-825A-4394-87E5-162BCB5409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