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86267"/>
        <c:axId val="58108432"/>
      </c:barChart>
      <c:catAx>
        <c:axId val="30486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08432"/>
        <c:crosses val="autoZero"/>
        <c:auto val="1"/>
        <c:lblAlgn val="ctr"/>
        <c:lblOffset val="100"/>
        <c:noMultiLvlLbl val="0"/>
      </c:catAx>
      <c:valAx>
        <c:axId val="58108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6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219-500D-47D6-AD53-6BAE4288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68A-AF77-45C7-87B8-989874F8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183-ECFA-42E8-80D1-BCB8C503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C67-F0EA-41B1-87DB-54D60D71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10C-C88B-4F91-9FD2-45E0A1A5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368-AD5B-4A7E-B553-49095099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E75-8905-425D-A393-913B72B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2FD-22FC-4656-9970-843CE9D7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5F0-8FF3-48ED-982F-20B14240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E1B-7B91-43DD-9237-1E5C2E1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6D5-2425-41F9-A2FF-4AFA99C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6DB-A1A2-46DD-AF2F-1D6E82E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754C2-64FF-4D1D-9E48-3EFFFDFDE9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