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07194"/>
        <c:axId val="40526039"/>
      </c:barChart>
      <c:catAx>
        <c:axId val="16207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26039"/>
        <c:crosses val="autoZero"/>
        <c:auto val="1"/>
        <c:lblAlgn val="ctr"/>
        <c:lblOffset val="100"/>
        <c:noMultiLvlLbl val="0"/>
      </c:catAx>
      <c:valAx>
        <c:axId val="40526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07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4CF-8B37-4C70-A324-E5882180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A2A-54F8-4552-A590-9FF099F2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95B-A569-4DAC-A9BD-9DF2D7B4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881-DC86-4C24-B450-7857CF3E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B0D-0400-4D6A-974C-F7B5495B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5829-3B51-4115-AD3D-BEBBC949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FED-7DB9-4892-924B-3078AE20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875-86CD-4331-9303-1A3B6C59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9B6-765C-4B03-9CBA-89CB3C55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603-916A-4E2D-898F-4DD01F70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2B2-B7AD-491C-9143-10CE92F9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8DA-85DA-4AE8-9494-CC1CCB43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F0034-4E8A-4C94-BAF2-62868ABD82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