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39997"/>
        <c:axId val="56385914"/>
      </c:barChart>
      <c:catAx>
        <c:axId val="794399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85914"/>
        <c:crosses val="autoZero"/>
        <c:auto val="1"/>
        <c:lblAlgn val="ctr"/>
        <c:lblOffset val="100"/>
        <c:noMultiLvlLbl val="0"/>
      </c:catAx>
      <c:valAx>
        <c:axId val="56385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399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10D-F189-472B-8D53-809EBD29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954-55CF-42A8-9A2E-19F630E4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104-46F6-483D-9DC8-F3244D25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729-BCBD-4B92-AD80-3C0B2757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1CAD-D613-4C7B-9C13-8B721CC5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24F-1D54-4916-B114-11D04FF6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417-CDFB-4506-9294-7D30484E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5EC6-A7FD-46F9-916B-30D22D27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AAC8-279F-46E8-97F5-1B8B189F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CA0-D2FB-4947-8E91-64EC4614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C75-BE57-4A26-AB59-3FB4D1DF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F94-C1F4-4063-8078-7B222066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7F99B-0DF0-48E5-87EB-B26D07A521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