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56233"/>
        <c:axId val="68958998"/>
      </c:barChart>
      <c:catAx>
        <c:axId val="70956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58998"/>
        <c:crosses val="autoZero"/>
        <c:auto val="1"/>
        <c:lblAlgn val="ctr"/>
        <c:lblOffset val="100"/>
        <c:noMultiLvlLbl val="0"/>
      </c:catAx>
      <c:valAx>
        <c:axId val="68958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56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D61-A59B-4C40-AAA7-AEDA7011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B0F-4B4C-4BB9-9692-A82949CF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2B2-10A5-4A17-9270-09CFF842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82A-EC0E-483A-9E87-410272E7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0D2-6E39-4A1F-8252-B3BD69A5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36B-6149-4115-9348-4E60C800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E42-9D09-4131-9A17-42E45D0D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9D9-430E-41E0-83F0-44C08A0C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24F-5F8F-4BAF-8403-D9FD82D5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39C-1740-4FB0-90C1-EF7E491D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E8B-1531-4FB6-8FAA-B5DB8CA9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8D3-17BC-48F8-A0A6-604BB6D8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5F3AC-82D4-493B-AA83-234BF3DE7F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