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3169"/>
        <c:axId val="10062691"/>
      </c:barChart>
      <c:catAx>
        <c:axId val="3823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62691"/>
        <c:crosses val="autoZero"/>
        <c:auto val="1"/>
        <c:lblAlgn val="ctr"/>
        <c:lblOffset val="100"/>
        <c:noMultiLvlLbl val="0"/>
      </c:catAx>
      <c:valAx>
        <c:axId val="10062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3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153-13C1-43D4-B215-0F7C4274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645-231E-426B-9549-C186E162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75D-598F-49A3-AD83-6EFC87FD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D95-DC20-4E5D-A7B2-75D91A5F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332-9210-4329-89D2-4458359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3BC-BAA6-43FA-BE48-72F3B8F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1DC-89A7-4F2D-B666-5989FA6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9E4-05BA-4B88-BA4F-5713D56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143-6B56-4203-8B02-1101891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C5A-2CC3-40CB-A9F0-59BD090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005-CB69-4C86-9F27-F534437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7B1-852C-4981-893E-0DD9C71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D7D06-E948-457F-9138-3C2511B1F1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