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317132"/>
        <c:axId val="260675"/>
      </c:barChart>
      <c:catAx>
        <c:axId val="933171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0675"/>
        <c:crosses val="autoZero"/>
        <c:auto val="1"/>
        <c:lblAlgn val="ctr"/>
        <c:lblOffset val="100"/>
        <c:noMultiLvlLbl val="0"/>
      </c:catAx>
      <c:valAx>
        <c:axId val="2606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171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BC34-9904-4EC2-B9E8-35D748EE9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FC99-AB11-49E0-A1B2-006C74AD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23AB-57C8-46CF-A47D-35CB356B5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CD6D-3C37-43FC-A240-74202A7C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8379-1182-4C5A-A6DC-2D1C8861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C134-B579-49E3-BD8B-A869F2C8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A873-4637-4474-A140-47BE9303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95BE-D32C-40D0-B7FE-11836E1B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C41B-78CF-4023-B5F8-CA8D34CC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19A7-03F2-40DB-9F7F-0C78BA54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7A41-AAC0-4F67-B1D4-70433693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FE5D-4B40-4F98-835D-A366977E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55315-1ADB-46AA-A297-D52225CA7F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